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55F2-AE56-4919-A59A-7F2614B8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D04D-99B7-428F-AFCE-E4DA1F68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2D2-D1C7-45A1-93F7-B598EBE8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9AD2-F84F-4920-8979-D779DBF5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8EF-C02A-4A5A-B1EE-1D46C9F6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652-9F73-4A76-8EF7-F073FF32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BF6-22E2-4A0A-BF00-91B5EF5F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625B-A1DA-4494-A778-F83DDD18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4E5C-6DF6-4899-BBC1-CBDE1FC6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FE6-751E-4CB5-9E64-F6C72104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9ED-CB6B-4373-BDC5-9AF5C95F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C9C9-AE34-4011-826C-EF1418EF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1DD9-BB59-453F-BA7B-84EAD8FDB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Стоматологиј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2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258920" y="2525040"/>
            <a:ext cx="632916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АВЉАЊ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КЛИНИЧК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ПИТА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Главни задаци у раду са болесницима због којих се постављају питањ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линички налаз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о на одговарајући начин тумачити симптоме и знаке код болесник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тиологија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о наћи узрок боле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иференцијална дијагноза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о рангирати све могуће дијагнозе по вероватноћи, озбиљности и подложности лечењ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ијагностички тес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како изабрати и интерпретирати дијагностички тес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Прогноз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како проценити вероватни ток болести код болесника и предвидети компликаци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Терапиј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како изабрати лечење које више користи него што ште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и које вреди напора и трошков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венција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о открити и изменити факторе ризика, како рано открити болест скрининго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савршавање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о побољшати своје клиничке вештине и своју пракс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ЧЕТИРИ ЕЛЕМЕНТА ДОБРОГ КЛИНИЧКОГ ПИТАЊ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435880" cy="4705200"/>
        </p:xfrm>
        <a:graphic>
          <a:graphicData uri="http://schemas.openxmlformats.org/drawingml/2006/table">
            <a:tbl>
              <a:tblPr/>
              <a:tblGrid>
                <a:gridCol w="1090440"/>
                <a:gridCol w="1936800"/>
                <a:gridCol w="1913040"/>
                <a:gridCol w="1800360"/>
                <a:gridCol w="16952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Болесник или пробл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Интервенција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зрок, третман, ит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поређе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с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вет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Како бих описао групу болесника сличних мом? Будите прецизни али кратк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ја је главна интервенција коју планирам? Будите специфич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 је главна алтернатива интервенцији коју планирам? Будите специфич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 могу очекивати да ћу постићи? или Шта ће интервенција заиста постић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болесника са инсуфицијенцијом срца због дилатативне кардиомиопатије, који су у синусном ритму…….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да ли би примена варфарина код болесника који прима стандардну терапију за инсуфицијенцију срца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 када се упореди са стандардном терапијом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ће мањи морталитет и морбидитет од тромбоемболиј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ли је то вредно повећаног ризика од крвављењ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Госпођиц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Драгица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годи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већ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сетак дана пати од перикоронити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еба да добије антибиотик који ће излечити ову инфекци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Читала је о томе у новина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видела је да се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д перикоронитиса даје више антибиотика, али се најчешће помињу метронидазол и амоксицили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енутно има болове, а температура је повишена на 37,5</a:t>
            </a:r>
            <a:r>
              <a:rPr b="0" lang="sr-CS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ЛИНИЧКО ПИТАЊ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 ли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амоксицилин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са већом вероватноћом од </a:t>
            </a:r>
            <a:r>
              <a:rPr b="0" lang="sr-CS" sz="3200" spc="-1" strike="noStrike">
                <a:solidFill>
                  <a:srgbClr val="00b050"/>
                </a:solidFill>
                <a:latin typeface="Times New Roman"/>
              </a:rPr>
              <a:t>метронидазол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довести до </a:t>
            </a:r>
            <a:r>
              <a:rPr b="0" lang="sr-CS" sz="3200" spc="-1" strike="noStrike">
                <a:solidFill>
                  <a:srgbClr val="7030a0"/>
                </a:solidFill>
                <a:latin typeface="Times New Roman"/>
              </a:rPr>
              <a:t>излечењ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cc0066"/>
                </a:solidFill>
                <a:latin typeface="Times New Roman"/>
              </a:rPr>
              <a:t>перикоронитиса код адолесцената којима израста “осмица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1785960" y="25002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 ли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 </a:t>
            </a:r>
            <a:r>
              <a:rPr b="0" lang="sr-CS" sz="1800" spc="-1" strike="noStrike">
                <a:solidFill>
                  <a:srgbClr val="ff0000"/>
                </a:solidFill>
                <a:latin typeface="Times New Roman"/>
              </a:rPr>
              <a:t>амоксицилин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са већом вероватноћом од </a:t>
            </a:r>
            <a:r>
              <a:rPr b="0" lang="sr-CS" sz="1800" spc="-1" strike="noStrike">
                <a:solidFill>
                  <a:srgbClr val="00b050"/>
                </a:solidFill>
                <a:latin typeface="Times New Roman"/>
              </a:rPr>
              <a:t>метронидазол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довести до </a:t>
            </a:r>
            <a:r>
              <a:rPr b="0" lang="sr-CS" sz="1800" spc="-1" strike="noStrike">
                <a:solidFill>
                  <a:srgbClr val="7030a0"/>
                </a:solidFill>
                <a:latin typeface="Times New Roman"/>
              </a:rPr>
              <a:t>излечењ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cc0066"/>
                </a:solidFill>
                <a:latin typeface="Times New Roman"/>
              </a:rPr>
              <a:t>перикоронитис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cc0066"/>
                </a:solidFill>
                <a:latin typeface="Times New Roman"/>
              </a:rPr>
              <a:t>код адолесцената којима израста “осмица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6368400" y="5214960"/>
            <a:ext cx="24285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роблем или болес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7139160" y="1285920"/>
            <a:ext cx="792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с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079360" y="1571760"/>
            <a:ext cx="1526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нтервен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40440" y="4214880"/>
            <a:ext cx="12733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Упоређењ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Straight Arrow Connector 11"/>
          <p:cNvCxnSpPr/>
          <p:nvPr/>
        </p:nvCxnSpPr>
        <p:spPr>
          <a:xfrm>
            <a:off x="2999160" y="2000160"/>
            <a:ext cx="358200" cy="5724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12"/>
          <p:cNvCxnSpPr/>
          <p:nvPr/>
        </p:nvCxnSpPr>
        <p:spPr>
          <a:xfrm flipV="1">
            <a:off x="1428840" y="3071520"/>
            <a:ext cx="429120" cy="1072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9" name="Straight Arrow Connector 13"/>
          <p:cNvCxnSpPr/>
          <p:nvPr/>
        </p:nvCxnSpPr>
        <p:spPr>
          <a:xfrm flipH="1">
            <a:off x="5285880" y="1571760"/>
            <a:ext cx="1643760" cy="12866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Straight Arrow Connector 14"/>
          <p:cNvCxnSpPr/>
          <p:nvPr/>
        </p:nvCxnSpPr>
        <p:spPr>
          <a:xfrm flipH="1" flipV="1">
            <a:off x="4142880" y="3357360"/>
            <a:ext cx="3215520" cy="17150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3-01-27T13:29:32Z</dcterms:modified>
  <cp:revision>57</cp:revision>
  <dc:subject/>
  <dc:title>Slide 1</dc:title>
</cp:coreProperties>
</file>